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485-3347-4105-9C85-65D3E62D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52E-5E1C-4066-ABEE-BE285D2D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3C6-7729-431A-BF3B-8F22038E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922-C70A-4094-A45D-58FBAE34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D321-E474-4C03-95C3-71908312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5246-FD2B-4CF8-B24D-2BAAEEE7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C113-35B6-4AC2-AFCF-80030AED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6388-FE75-41D6-A1D9-6BB0899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918-FFAF-4374-B0E0-83A9AFC4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FE7D-45D7-4FC7-BB34-D2CDF296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F4C-F391-4C9F-9E36-2E9FCAAE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D78-D7B0-4D9E-9454-3809D8E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46B1-1DC1-4101-8FFD-E971E40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7587-C89A-4107-B2FA-4663FB7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CBE-68AC-4A49-9B0F-CB39574D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4EC-3A08-4431-8972-4FCBF002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DED4-B595-4C81-81F8-E882A00B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F36-6C65-4268-97F7-8444DE1B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633-F8B5-4588-9E87-D6EB8AC5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18A-58D1-4C99-8F6C-0A1E0AA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F0B-9A9D-4C72-9520-69CCBD6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51D-F1A3-4DAA-8F0E-9716DE80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C5B-E9FE-4319-8845-522709AB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EE0-3DA3-41A6-B5C7-CBE73C2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72CA-E19C-4497-8186-AB5625EC4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452E-4869-4884-B397-E0E3D2A95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imal Research Projec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o turn 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quired It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Point that covers all of the following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investigative pos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note about the experience (+ / 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oking for the “A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photos of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 clips of the experimenta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o clips discussing the analysis of th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any supportive evidence from other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 complete experiment to test any new hypothesis to your initial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resen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present your powerpoint to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minute m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To be informat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quired Item 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ull lab report written in the format given to you at the beginning of the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information must be included in absolute detai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D document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include all earlier documents as an appendix to the final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4:04:37Z</dcterms:created>
  <dc:creator>joconnor</dc:creator>
  <dc:description/>
  <dc:language>en-US</dc:language>
  <cp:lastModifiedBy>joconnor</cp:lastModifiedBy>
  <dcterms:modified xsi:type="dcterms:W3CDTF">2010-02-05T14:13:58Z</dcterms:modified>
  <cp:revision>1</cp:revision>
  <dc:subject/>
  <dc:title>Animal Research Project</dc:title>
</cp:coreProperties>
</file>